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driveby.wav" ContentType="audio/x-wav"/>
  <Override PartName="/ppt/media/image8.wmf" ContentType="image/x-wmf"/>
  <Override PartName="/ppt/media/cashreg.wav" ContentType="audio/x-wav"/>
  <Override PartName="/ppt/media/image4.wmf" ContentType="image/x-wmf"/>
  <Override PartName="/ppt/media/image27.wmf" ContentType="image/x-wmf"/>
  <Override PartName="/ppt/media/image22.wmf" ContentType="image/x-wmf"/>
  <Override PartName="/ppt/media/image6.wmf" ContentType="image/x-wmf"/>
  <Override PartName="/ppt/media/image29.wmf" ContentType="image/x-wmf"/>
  <Override PartName="/ppt/media/image23.wmf" ContentType="image/x-wmf"/>
  <Override PartName="/ppt/media/image12.wmf" ContentType="image/x-wmf"/>
  <Override PartName="/ppt/media/image24.wmf" ContentType="image/x-wmf"/>
  <Override PartName="/ppt/media/projctor.wav" ContentType="audio/x-wav"/>
  <Override PartName="/ppt/media/image1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laser.wav" ContentType="audio/x-wav"/>
  <Override PartName="/ppt/media/image5.wmf" ContentType="image/x-wmf"/>
  <Override PartName="/ppt/media/image25.wmf" ContentType="image/x-wmf"/>
  <Override PartName="/ppt/media/gunshot.wav" ContentType="audio/x-wav"/>
  <Override PartName="/ppt/media/image11.wmf" ContentType="image/x-wmf"/>
  <Override PartName="/ppt/media/ricochet.wav" ContentType="audio/x-wav"/>
  <Override PartName="/ppt/media/image2.wmf" ContentType="image/x-wmf"/>
  <Override PartName="/ppt/media/chimes.wav" ContentType="audio/x-wav"/>
  <Override PartName="/ppt/media/camera.wav" ContentType="audio/x-wav"/>
  <Override PartName="/ppt/media/image7.wmf" ContentType="image/x-wmf"/>
  <Override PartName="/ppt/media/image9.wmf" ContentType="image/x-wmf"/>
  <Override PartName="/ppt/media/image10.wmf" ContentType="image/x-wmf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065-0175-40A6-94AF-51054AEE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205-3E0A-4335-983A-F170577D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91C-C53E-4884-8AE1-F3A6DCB2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CD1-A2E3-45F1-8BE5-17C7D7DF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E8D-DE76-4388-BE14-73CAAF8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DD4-133F-44E9-929C-B458D15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897-0118-4F8F-B412-6FD4159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94B-5084-4843-B4AE-46A98B92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19F-35E2-452C-BA9D-9034774C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A9C-2C8A-4734-ADC3-1B2E569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0C0-B76D-4C54-A7CA-2465C78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DC-3461-4C61-B619-361F880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D10-FB7B-424B-A634-67B15B76D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shreg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driveby.wav"/><Relationship Id="rId16" Type="http://schemas.openxmlformats.org/officeDocument/2006/relationships/audio" Target="../media/cashreg.wav"/><Relationship Id="rId17" Type="http://schemas.openxmlformats.org/officeDocument/2006/relationships/audio" Target="../media/driveby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driveby.wav"/><Relationship Id="rId22" Type="http://schemas.openxmlformats.org/officeDocument/2006/relationships/audio" Target="../media/cashreg.wav"/><Relationship Id="rId23" Type="http://schemas.openxmlformats.org/officeDocument/2006/relationships/audio" Target="../media/driveby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driveby.wav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audio" Target="../media/camera.wav"/><Relationship Id="rId40" Type="http://schemas.openxmlformats.org/officeDocument/2006/relationships/audio" Target="../media/chimes.wav"/><Relationship Id="rId41" Type="http://schemas.openxmlformats.org/officeDocument/2006/relationships/audio" Target="../media/cashreg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gunshot.wav"/><Relationship Id="rId46" Type="http://schemas.openxmlformats.org/officeDocument/2006/relationships/audio" Target="../media/gunshot.wav"/><Relationship Id="rId47" Type="http://schemas.openxmlformats.org/officeDocument/2006/relationships/audio" Target="../media/gunshot.wav"/><Relationship Id="rId48" Type="http://schemas.openxmlformats.org/officeDocument/2006/relationships/audio" Target="../media/ricochet.wav"/><Relationship Id="rId49" Type="http://schemas.openxmlformats.org/officeDocument/2006/relationships/audio" Target="../media/driveby.wav"/><Relationship Id="rId50" Type="http://schemas.openxmlformats.org/officeDocument/2006/relationships/audio" Target="../media/laser.wav"/><Relationship Id="rId51" Type="http://schemas.openxmlformats.org/officeDocument/2006/relationships/audio" Target="../media/laser.wav"/><Relationship Id="rId52" Type="http://schemas.openxmlformats.org/officeDocument/2006/relationships/audio" Target="../media/gunshot.wav"/><Relationship Id="rId53" Type="http://schemas.openxmlformats.org/officeDocument/2006/relationships/audio" Target="../media/driveby.wav"/><Relationship Id="rId54" Type="http://schemas.openxmlformats.org/officeDocument/2006/relationships/audio" Target="../media/cashreg.wav"/><Relationship Id="rId55" Type="http://schemas.openxmlformats.org/officeDocument/2006/relationships/audio" Target="../media/gunshot.wav"/><Relationship Id="rId56" Type="http://schemas.openxmlformats.org/officeDocument/2006/relationships/audio" Target="../media/gunshot.wav"/><Relationship Id="rId57" Type="http://schemas.openxmlformats.org/officeDocument/2006/relationships/audio" Target="../media/driveby.wav"/><Relationship Id="rId58" Type="http://schemas.openxmlformats.org/officeDocument/2006/relationships/audio" Target="../media/gunshot.wav"/><Relationship Id="rId59" Type="http://schemas.openxmlformats.org/officeDocument/2006/relationships/audio" Target="../media/gunshot.wav"/><Relationship Id="rId60" Type="http://schemas.openxmlformats.org/officeDocument/2006/relationships/audio" Target="../media/gunshot.wav"/><Relationship Id="rId61" Type="http://schemas.openxmlformats.org/officeDocument/2006/relationships/audio" Target="../media/driveby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gunshot.wav"/><Relationship Id="rId65" Type="http://schemas.openxmlformats.org/officeDocument/2006/relationships/audio" Target="../media/driveby.wav"/><Relationship Id="rId66" Type="http://schemas.openxmlformats.org/officeDocument/2006/relationships/audio" Target="../media/cashreg.wav"/><Relationship Id="rId67" Type="http://schemas.openxmlformats.org/officeDocument/2006/relationships/audio" Target="../media/gunshot.wav"/><Relationship Id="rId68" Type="http://schemas.openxmlformats.org/officeDocument/2006/relationships/audio" Target="../media/gunshot.wav"/><Relationship Id="rId69" Type="http://schemas.openxmlformats.org/officeDocument/2006/relationships/audio" Target="../media/driveby.wav"/><Relationship Id="rId70" Type="http://schemas.openxmlformats.org/officeDocument/2006/relationships/audio" Target="../media/gunshot.wav"/><Relationship Id="rId71" Type="http://schemas.openxmlformats.org/officeDocument/2006/relationships/audio" Target="../media/gunshot.wav"/><Relationship Id="rId72" Type="http://schemas.openxmlformats.org/officeDocument/2006/relationships/audio" Target="../media/gunshot.wav"/><Relationship Id="rId73" Type="http://schemas.openxmlformats.org/officeDocument/2006/relationships/audio" Target="../media/driveby.wav"/><Relationship Id="rId74" Type="http://schemas.openxmlformats.org/officeDocument/2006/relationships/audio" Target="../media/laser.wav"/><Relationship Id="rId75" Type="http://schemas.openxmlformats.org/officeDocument/2006/relationships/audio" Target="../media/gunshot.wav"/><Relationship Id="rId76" Type="http://schemas.openxmlformats.org/officeDocument/2006/relationships/audio" Target="../media/driveby.wav"/><Relationship Id="rId7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wmf"/><Relationship Id="rId35" Type="http://schemas.openxmlformats.org/officeDocument/2006/relationships/audio" Target="../media/camera.wav"/><Relationship Id="rId36" Type="http://schemas.openxmlformats.org/officeDocument/2006/relationships/audio" Target="../media/chimes.wav"/><Relationship Id="rId37" Type="http://schemas.openxmlformats.org/officeDocument/2006/relationships/audio" Target="../media/cashreg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ricochet.wav"/><Relationship Id="rId41" Type="http://schemas.openxmlformats.org/officeDocument/2006/relationships/audio" Target="../media/ricochet.wav"/><Relationship Id="rId42" Type="http://schemas.openxmlformats.org/officeDocument/2006/relationships/audio" Target="../media/ricochet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cashreg.wav"/><Relationship Id="rId48" Type="http://schemas.openxmlformats.org/officeDocument/2006/relationships/audio" Target="../media/driveby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audio" Target="../media/gunshot.wav"/><Relationship Id="rId52" Type="http://schemas.openxmlformats.org/officeDocument/2006/relationships/audio" Target="../media/gunshot.wav"/><Relationship Id="rId53" Type="http://schemas.openxmlformats.org/officeDocument/2006/relationships/audio" Target="../media/gunshot.wav"/><Relationship Id="rId54" Type="http://schemas.openxmlformats.org/officeDocument/2006/relationships/audio" Target="../media/gunshot.wav"/><Relationship Id="rId55" Type="http://schemas.openxmlformats.org/officeDocument/2006/relationships/audio" Target="../media/driveby.wav"/><Relationship Id="rId56" Type="http://schemas.openxmlformats.org/officeDocument/2006/relationships/audio" Target="../media/laser.wav"/><Relationship Id="rId57" Type="http://schemas.openxmlformats.org/officeDocument/2006/relationships/audio" Target="../media/gunshot.wav"/><Relationship Id="rId58" Type="http://schemas.openxmlformats.org/officeDocument/2006/relationships/audio" Target="../media/driveby.wav"/><Relationship Id="rId59" Type="http://schemas.openxmlformats.org/officeDocument/2006/relationships/audio" Target="../media/cashreg.wav"/><Relationship Id="rId60" Type="http://schemas.openxmlformats.org/officeDocument/2006/relationships/audio" Target="../media/gunshot.wav"/><Relationship Id="rId61" Type="http://schemas.openxmlformats.org/officeDocument/2006/relationships/audio" Target="../media/gunshot.wav"/><Relationship Id="rId62" Type="http://schemas.openxmlformats.org/officeDocument/2006/relationships/audio" Target="../media/gunshot.wav"/><Relationship Id="rId63" Type="http://schemas.openxmlformats.org/officeDocument/2006/relationships/audio" Target="../media/gunshot.wav"/><Relationship Id="rId64" Type="http://schemas.openxmlformats.org/officeDocument/2006/relationships/audio" Target="../media/gunshot.wav"/><Relationship Id="rId65" Type="http://schemas.openxmlformats.org/officeDocument/2006/relationships/audio" Target="../media/driveby.wav"/><Relationship Id="rId66" Type="http://schemas.openxmlformats.org/officeDocument/2006/relationships/audio" Target="../media/laser.wav"/><Relationship Id="rId67" Type="http://schemas.openxmlformats.org/officeDocument/2006/relationships/audio" Target="../media/gunshot.wav"/><Relationship Id="rId68" Type="http://schemas.openxmlformats.org/officeDocument/2006/relationships/audio" Target="../media/driveby.wav"/><Relationship Id="rId6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960" y="66348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1752480"/>
          <a:ext cx="266724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26672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228600" y="3200400"/>
            <a:ext cx="3733920" cy="825480"/>
            <a:chOff x="228600" y="3200400"/>
            <a:chExt cx="3733920" cy="825480"/>
          </a:xfrm>
        </p:grpSpPr>
        <p:sp>
          <p:nvSpPr>
            <p:cNvPr id="47" name=""/>
            <p:cNvSpPr/>
            <p:nvPr/>
          </p:nvSpPr>
          <p:spPr>
            <a:xfrm>
              <a:off x="228600" y="34290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320040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08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-2    -1     0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133720"/>
            <a:ext cx="762120" cy="3808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2767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8600" y="342900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752480"/>
          <a:ext cx="243972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752480"/>
                    <a:ext cx="24397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4495680" y="3200400"/>
            <a:ext cx="3733920" cy="825480"/>
            <a:chOff x="4495680" y="3200400"/>
            <a:chExt cx="3733920" cy="825480"/>
          </a:xfrm>
        </p:grpSpPr>
        <p:sp>
          <p:nvSpPr>
            <p:cNvPr id="56" name=""/>
            <p:cNvSpPr/>
            <p:nvPr/>
          </p:nvSpPr>
          <p:spPr>
            <a:xfrm>
              <a:off x="4495680" y="34290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0600" y="320040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648320" y="3581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-2    -1     0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133720"/>
            <a:ext cx="762120" cy="3808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2767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42900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95680" y="4114800"/>
          <a:ext cx="238284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5680" y="4114800"/>
                    <a:ext cx="23828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2514600" y="5562720"/>
            <a:ext cx="3733920" cy="825480"/>
            <a:chOff x="2514600" y="5562720"/>
            <a:chExt cx="3733920" cy="825480"/>
          </a:xfrm>
        </p:grpSpPr>
        <p:sp>
          <p:nvSpPr>
            <p:cNvPr id="65" name=""/>
            <p:cNvSpPr/>
            <p:nvPr/>
          </p:nvSpPr>
          <p:spPr>
            <a:xfrm>
              <a:off x="2514600" y="57913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520" y="55627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-2    -1     0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72000"/>
            <a:ext cx="761760" cy="3808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5638680"/>
            <a:ext cx="30492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579132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20" y="687240"/>
            <a:ext cx="90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Using Addition and Subtraction to Solve an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its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" y="1676520"/>
          <a:ext cx="297180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29718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304920" y="4267080"/>
            <a:ext cx="3733560" cy="825480"/>
            <a:chOff x="304920" y="4267080"/>
            <a:chExt cx="3733560" cy="825480"/>
          </a:xfrm>
        </p:grpSpPr>
        <p:sp>
          <p:nvSpPr>
            <p:cNvPr id="77" name=""/>
            <p:cNvSpPr/>
            <p:nvPr/>
          </p:nvSpPr>
          <p:spPr>
            <a:xfrm>
              <a:off x="304920" y="44956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480" y="4267080"/>
              <a:ext cx="34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720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      0      1     2     3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09880"/>
            <a:ext cx="762120" cy="38124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34340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560" y="44956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952880" y="1676520"/>
          <a:ext cx="297180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676520"/>
                    <a:ext cx="29718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4572000" y="4267080"/>
            <a:ext cx="3733920" cy="825480"/>
            <a:chOff x="4572000" y="4267080"/>
            <a:chExt cx="3733920" cy="825480"/>
          </a:xfrm>
        </p:grpSpPr>
        <p:sp>
          <p:nvSpPr>
            <p:cNvPr id="86" name=""/>
            <p:cNvSpPr/>
            <p:nvPr/>
          </p:nvSpPr>
          <p:spPr>
            <a:xfrm>
              <a:off x="4572000" y="449568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26708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4648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6     -5    -4    -3     -2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124080"/>
            <a:ext cx="762120" cy="2286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4343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1640" y="449568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5029200"/>
          <a:ext cx="35049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029200"/>
                    <a:ext cx="3504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5029200" y="6019920"/>
            <a:ext cx="3733920" cy="825480"/>
            <a:chOff x="5029200" y="6019920"/>
            <a:chExt cx="3733920" cy="825480"/>
          </a:xfrm>
        </p:grpSpPr>
        <p:sp>
          <p:nvSpPr>
            <p:cNvPr id="95" name=""/>
            <p:cNvSpPr/>
            <p:nvPr/>
          </p:nvSpPr>
          <p:spPr>
            <a:xfrm>
              <a:off x="5029200" y="62485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0199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181480" y="6400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    -4     -3     -2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6095880"/>
            <a:ext cx="30492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2485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2133720"/>
          <a:ext cx="7686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133720"/>
                    <a:ext cx="768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5800" y="2133720"/>
          <a:ext cx="76824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133720"/>
                    <a:ext cx="7682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274320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2743200"/>
          <a:ext cx="51264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2743200"/>
                    <a:ext cx="512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47920" y="2743200"/>
          <a:ext cx="51264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2743200"/>
                    <a:ext cx="512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05120" y="2819520"/>
          <a:ext cx="512640" cy="666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5120" y="2819520"/>
                    <a:ext cx="512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14400" y="3352680"/>
          <a:ext cx="1436760" cy="77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3352680"/>
                    <a:ext cx="14367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248520" y="2133720"/>
          <a:ext cx="819000" cy="61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8520" y="2133720"/>
                    <a:ext cx="8190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086600" y="2133720"/>
          <a:ext cx="819000" cy="61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6600" y="2133720"/>
                    <a:ext cx="8190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638680" y="2743200"/>
            <a:ext cx="2667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53080" y="2793960"/>
          <a:ext cx="51300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53080" y="2793960"/>
                    <a:ext cx="5130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010280" y="2717640"/>
          <a:ext cx="513000" cy="614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2717640"/>
                    <a:ext cx="5130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315200" y="2666880"/>
          <a:ext cx="820800" cy="615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315200" y="2666880"/>
                    <a:ext cx="820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76520" y="5638680"/>
          <a:ext cx="869760" cy="614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676520" y="5638680"/>
                    <a:ext cx="869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971800" y="5638680"/>
          <a:ext cx="870120" cy="614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71800" y="5638680"/>
                    <a:ext cx="8701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90720" y="6248520"/>
            <a:ext cx="2666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5120" y="6222960"/>
          <a:ext cx="512640" cy="665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05120" y="6222960"/>
                    <a:ext cx="5126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438280" y="6294600"/>
          <a:ext cx="513000" cy="563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438280" y="6294600"/>
                    <a:ext cx="513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895480" y="6242040"/>
          <a:ext cx="871560" cy="615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895480" y="6242040"/>
                    <a:ext cx="871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13680" y="700200"/>
            <a:ext cx="9032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Using Multiplication and Division to Solve an Inequa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its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523880"/>
          <a:ext cx="307512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0751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304920" y="4038480"/>
            <a:ext cx="3733560" cy="825480"/>
            <a:chOff x="304920" y="4038480"/>
            <a:chExt cx="3733560" cy="825480"/>
          </a:xfrm>
        </p:grpSpPr>
        <p:sp>
          <p:nvSpPr>
            <p:cNvPr id="141" name=""/>
            <p:cNvSpPr/>
            <p:nvPr/>
          </p:nvSpPr>
          <p:spPr>
            <a:xfrm>
              <a:off x="304920" y="42670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4038480"/>
              <a:ext cx="34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7200" y="4419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7     -6     -5    -4    -3 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411480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56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19440" y="1905120"/>
          <a:ext cx="343404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9440" y="1905120"/>
                    <a:ext cx="34340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4648320" y="4038480"/>
            <a:ext cx="3733560" cy="825480"/>
            <a:chOff x="4648320" y="4038480"/>
            <a:chExt cx="3733560" cy="825480"/>
          </a:xfrm>
        </p:grpSpPr>
        <p:sp>
          <p:nvSpPr>
            <p:cNvPr id="149" name=""/>
            <p:cNvSpPr/>
            <p:nvPr/>
          </p:nvSpPr>
          <p:spPr>
            <a:xfrm>
              <a:off x="4648320" y="42670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4038480"/>
              <a:ext cx="34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800600" y="4419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 1     2      3 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7960" y="426708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33360" y="4786200"/>
                <a:ext cx="329580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5029200" y="6019920"/>
            <a:ext cx="3733920" cy="825480"/>
            <a:chOff x="5029200" y="6019920"/>
            <a:chExt cx="3733920" cy="825480"/>
          </a:xfrm>
        </p:grpSpPr>
        <p:sp>
          <p:nvSpPr>
            <p:cNvPr id="156" name=""/>
            <p:cNvSpPr/>
            <p:nvPr/>
          </p:nvSpPr>
          <p:spPr>
            <a:xfrm>
              <a:off x="5029200" y="62485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4120" y="60199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181480" y="6400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-7     -6     -5    -4    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09588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029200" y="624852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1905120"/>
          <a:ext cx="97308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905120"/>
                    <a:ext cx="973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971800" y="1828800"/>
          <a:ext cx="973080" cy="97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828800"/>
                    <a:ext cx="973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23880" y="3276720"/>
          <a:ext cx="51444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3276720"/>
                    <a:ext cx="5144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791320" y="2514600"/>
          <a:ext cx="8697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1320" y="2514600"/>
                    <a:ext cx="869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162920" y="2514600"/>
          <a:ext cx="869760" cy="6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62920" y="2514600"/>
                    <a:ext cx="869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11960" y="2514600"/>
            <a:ext cx="1066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45200" y="3174840"/>
          <a:ext cx="51264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45200" y="3174840"/>
                    <a:ext cx="512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602400" y="3098880"/>
          <a:ext cx="512640" cy="614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02400" y="3098880"/>
                    <a:ext cx="5126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086600" y="3048120"/>
          <a:ext cx="461880" cy="61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3048120"/>
                    <a:ext cx="4618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914400" y="5105520"/>
          <a:ext cx="1330200" cy="973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5105520"/>
                    <a:ext cx="13302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8120" y="5029200"/>
          <a:ext cx="1535040" cy="97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48120" y="5029200"/>
                    <a:ext cx="1535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689440" y="5156280"/>
          <a:ext cx="409680" cy="563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89440" y="5156280"/>
                    <a:ext cx="4096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172200" y="5176800"/>
          <a:ext cx="512640" cy="563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72200" y="5176800"/>
                    <a:ext cx="5126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654960" y="5124600"/>
          <a:ext cx="820440" cy="615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54960" y="5124600"/>
                    <a:ext cx="820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981080" y="3124080"/>
          <a:ext cx="630360" cy="69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124080"/>
                    <a:ext cx="630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438280" y="3048120"/>
          <a:ext cx="1071720" cy="7524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438280" y="3048120"/>
                    <a:ext cx="10717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264440" y="251460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21:26:25Z</dcterms:created>
  <dc:creator>Teacher</dc:creator>
  <dc:description/>
  <dc:language>en-US</dc:language>
  <cp:lastModifiedBy>damon.skelton</cp:lastModifiedBy>
  <dcterms:modified xsi:type="dcterms:W3CDTF">2005-11-04T14:02:04Z</dcterms:modified>
  <cp:revision>14</cp:revision>
  <dc:subject/>
  <dc:title>PowerPoint Presentation</dc:title>
</cp:coreProperties>
</file>